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A192-BEFA-4861-90E6-5E6A8EFD1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C7E8-C261-45C0-8E05-4227D767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47E6-4C0A-4BA9-978E-FA3FAD9CC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4059-C27F-471C-849B-7983C8FD4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0CB86-3E88-463C-A7AB-7BB47E300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A257-FE39-4ACE-90F9-FF2356CF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2405-589E-49FC-B74E-771F5C4A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A45A9-9C36-45B4-99F1-EB81941C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DEBF5-419A-47C2-BA21-A1C556DEF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039B0-24C9-4AA2-BF8D-E5F0B6CD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568D6-126D-4AD2-AF05-A0B3A9C2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E36A-5C8C-4BD1-9E94-08466D9C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9B07-1C0C-4B53-AF1B-673831C4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FE03B-F199-44BC-A327-7018D805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BB9A-599F-48AC-84A5-B7EB180E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1FBA-F547-4C20-AB67-98454A74B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47F6-9253-4ACC-8935-A77D40672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E8D9-34F3-4585-AA37-2D8BA27E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3BED-F994-4994-A2E8-885025E1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1AE1-B5EB-4F1F-B98A-D9BA5D59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88BD-9681-44D7-8C65-1FE5110E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F274-5314-4FEA-9EBF-CA87E0FA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E887-C737-40D6-9741-181D3010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3B51-428B-431C-860E-31EFB094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5A3A-007B-4885-B881-4D4FF9C6A0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C9C5-817F-4976-B89E-72EEDEAEE3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n The Days of The Jud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3, Lesson 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ges 8:4 – 9:5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. 74-8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’la  10:1-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 of Pu’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ged Israel 23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the tribe of Issach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a’ir  10:3-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il’e-adite – east of the Jord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ged Israel 22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d 30 sons on 30 colts and controlled 30 c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ed; buried in Ka’m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rael turns away again &amp; is delivered to Philis’tines &amp; Am’mo-nites for 18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rrow and realization of need for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ick Summary of Gide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pression of the Midian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l of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ide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the fifth Ju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ngel of Jehovah comes to h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deon overthrows the altar of Ba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deon musters Isra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igns of the flee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ice of 300 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umpets, lamps, &amp; pitc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om Gideon To Jai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deon refuses the cr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makes an eph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imelech murders Gideon’s sons and becomes king at Shec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able of Joth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olt against Abimele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truction of Shec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ath of Abimele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la &amp; J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86800" cy="865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review, review and review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thnie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first judge, delivered Israel from Chushan-rishathaim oppression of 8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 for 40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hu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livers Israel from Moabite oppression of 18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 for 80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hamga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kills 600 Philist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bora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Barak delivers Israel from Canaanite (Jabin) oppression of 20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 for 40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ide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livers Israel from the Midianite oppression of 7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 for 40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686800" cy="1322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ideon Kills Other Midianite Leaders  8:4-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’phra-im angry for not being called to hel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deon gives them credit for their impor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 at Suc’coth and Pen-u’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deon slays Ze’bah &amp; Zal-mun’na, kings of Midi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rael asks Gideon to rule over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deon: “God Shall Rule Over You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97240" cy="6858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438280" y="765000"/>
            <a:ext cx="6705720" cy="56120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33520" y="1600200"/>
            <a:ext cx="13716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951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686800" cy="1474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phod Becomes An Item of Worship – 8:24-3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deon made an ephod of gold  v24-2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rael played the harlot after it  v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was also a snare to Gideon  v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ace for 40 years  v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deon had many wives &amp; 70 sons  v29-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-bim’e-lech was a son of a concubine  v3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deon died; buried in Oph’rah  v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rael turns again to serve Ba’a-l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rael failed to show kindness to Gide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ideon Kills Other Midianite Lead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4572000" cy="35431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80880" y="50292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uccoth – Today Tell Deir Al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Fords of Jabbok from north"/>
          <p:cNvPicPr/>
          <p:nvPr/>
        </p:nvPicPr>
        <p:blipFill>
          <a:blip r:embed="rId2"/>
          <a:stretch/>
        </p:blipFill>
        <p:spPr>
          <a:xfrm>
            <a:off x="4724280" y="1219320"/>
            <a:ext cx="4419720" cy="35049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248520" y="50292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enu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imelech  9:1-5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a God-appointed ju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elf-appointed, wicked leader  v1-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lls his half-brothers, except Jo’tham  v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ed an agreement with the men of She’chem  v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’tham reproved the men of She’chem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7-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il spirit came between A-bim’e-lech and She’chem  v22-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’al challenged A-bim’e-lech  v26-2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e’bul sends word to Abimelech of Ga’al’s revolt v30-3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imelech attacks She’chem  v34-4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xt, he tries to burn the tower of The’bez  v50-5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oman throws down a millstone and cracks his skull  v5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asks a servant to finish him off  v5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’tham’s curse came upon A-bim’e-lech and the city of She’chem  v55-5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imelech  9:1-5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02:32:35Z</dcterms:created>
  <dc:creator>Terry W. Benton</dc:creator>
  <dc:description/>
  <dc:language>en-US</dc:language>
  <cp:lastModifiedBy>Frank D Vines</cp:lastModifiedBy>
  <dcterms:modified xsi:type="dcterms:W3CDTF">2005-02-13T14:26:28Z</dcterms:modified>
  <cp:revision>15</cp:revision>
  <dc:subject/>
  <dc:title>In The Days of The Judges</dc:title>
</cp:coreProperties>
</file>